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2CC-7A07-4564-8196-585049B0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0B0-FD8A-4A47-9013-7206FE17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C95-2E98-428B-8BA8-F741EF71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EAC-B996-4219-86A7-E270655A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7DF5-5010-4BEF-832C-C34CDE4F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3E76-73D5-43A5-AA2B-A81A0110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E677-9A9A-4FE1-A343-297D2E6A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8FA9-3B1E-43B8-9FCD-72175A5C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52C1-0A01-4F97-942D-AA0F1B10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D89A-3BB6-4CB2-945B-52550D54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5DF0-C7C1-4168-BC17-91D8BE38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A0B-A552-450B-BF74-F062002D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2CFD-793C-44EF-BE76-845C9477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7D0F-4ABB-4DA2-8450-A2555679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4263-135F-41F3-AC6A-EE50DC9A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C1E9-C7FC-4A8E-A1F6-20DEB94F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4FF4-E5DB-48E2-A762-C471A8D5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DF1-3B57-4A92-88AA-E81E6553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D41-A1D8-49E7-A963-ACF75569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2F7-ECB0-4E1C-BE59-B7A50EBC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14A-167F-4A7C-95D0-056ECEDE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49E-8BAF-4042-AA65-81B5667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41E-7917-4054-A4FB-13FE43E0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440-1CC0-4EEA-B6D9-FE8B101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7EEE-AEFA-46BC-B306-71C9EC6626A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5B8A-2CA2-4135-BC5F-ACF6266BC1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Основные направления деятельности ПМПК на современном этапе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35280" y="5035680"/>
            <a:ext cx="5308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едседатель ПМПК г. Казан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юдина Светлана Владимиров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8 вида (умственно отсталые) школа №61, №142, №76, школа-интернат №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разовательной программе общего образования для учащихся с интеллектуальной недостаточность (лёгкой, умеренной, глубокой) степени в ….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 с умственной отсталостью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общего образования с учётом индивидуальных психофизических особенностей, обусловленных лёгкой интеллектуальной недостаточностью в … класс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направления деятель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оведение обследования детей в возрасте от 0 до 18 лет в целях своевременного выявления особенностей в физическом или психическом развитии или отклонений в поведе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подготовка по результатам обследования рекомендаций по оказанию детям психолого-медико-педагогической помощи и организации их обучения и воспитания, подтверждение, уточнение или изменение ранее данных комиссией рекоменд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оказание консультативной помощи родителям (законным представителям) детей, работникам образовательных учреждений, учреждений социального обслуживания, здравоохранения, других организаций по вопросам воспитания, обучения и коррекции нарушений развития детей с ограниченными возможностями здоровья и девиантным поведени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оказание учреждениям медико-социальной экспертизы содействия в разработке индивидуальной программы реабилитации ребенка-инвали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7693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уществление учета данных о детях с ограниченными возможностями здоровья и (или) девиантным (общественно опасным) поведением, проживающих в г. Казан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подготовка рекомендаций обучающимся 9, 11 классов с ограниченными возможностями здоровья о форме сдачи государственной итоговой аттест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учающийся с ОВЗ это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Физическое лицо, имеющее недостатки в физическом или психологическом развитии, подтверждённые ПМПК и препятствующие получению образования без создания специальных условий». (ст. 2 Федерального закона «Об образовании в РФ»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группу школьников с ОВЗ входят дети с различными нарушениями слуха, зрения, речи, опорно-двигательного аппарата, интеллекта, расстройствами аутистического спект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определении формы сдачи ГИ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паспорта или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бучающего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школы о направлении ребёнка на ПМПК с целью определения формы сдачи ГИ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каз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равка от врача-психиатра с развёрнутым диагноз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слуха – направление сурдолога с развёрнутым диагнозом и данными о восприятии шёпотной речи, аудиометрическое обследование (аудиограм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зрения – направление окулиста с развёрнутым диагнозом и указанием остроты зр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опорно-двигательного аппарата – направление невролога с развёрнутым диагноз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ловия, необходимые для перевода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ерв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личие у ребёнка умственной отсталости, подтверждённое заключением районного врача психиатра (заключение платных специалистов не принимаются!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втор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стойкое неусвоение основной общеобразовательной программы, подтверждённое итоговыми оценками за каждую четверть и за год (не менее 2 – 3 двоек!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 ПМПК могут быть направлены школьник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 1 по 4 класс включительно!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родская комиссия начинает приём учеников общеобразовательных школ с ноября по итогам 1 четверти в течение всего календарного год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спубликанская ПМПК принимает детей г. Каз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30132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5 по 20 м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 2 по 10 июн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следние 3 недели авгус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1280" y="2362320"/>
            <a:ext cx="4968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ледовательно перевод ребёнка из одной образовательной организации в другую осуществляется только на следующий учебный го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.е. не зависимо от того, когда ребёнок прошёл городскую комиссию, учебный год он доучивается в своей школ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47360" y="828360"/>
            <a:ext cx="7797960" cy="8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ая цель ПМП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00000" y="2361960"/>
            <a:ext cx="7631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оевременное выявление детей с особенностями в физическом или психическом развитии или отклонениями в поведении, проведение их комплексного психолого-медико-педагогического обследования и подготовка по результатам обследования рекомендаций по оказанию им психолого-медико-педагогической помощи и организации их обучения и воспитания, а также подтверждения, уточнения или изменения ранее данных рекомендаци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переводе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истории развития ребёнка (от участкового педиатр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врача-психиатра на 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т классного руководите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бочие тетради по русскому языку и математи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абель успеваемости за четверть с выставленными двойками, а в конце года копия личного дела ученика, где не должно быть указано, что ребёнок переведён в следующий класс, а в табеле успеваемости в четвертных, полугодовых, итоговых оценках выставлены не менее двух – трёх двоек по основным предмет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о направлении ребёнка на ПМПК с целью определении дальнейшей программы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районного отдела образования на Р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ши координа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настоящий момент ПМПК осуществляет свою деятельность на базе средней общеобразовательной школы №168 и находится по адресу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л. Годовикова, д.8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Телефон комиссии 240-98-94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достижения этой цели в ПМПК осуществля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профессиональная комплексная диагностика, направленная на выявление актуальных и потенциальных возможностей развития детей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выбор или изменение образовательного маршрут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контроль эффективности разработанных рекомендаций в отношении  детей, прошедших обследование в ПМП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просы родителей при обращении в ПМП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филя дошкольного учрежд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граммы школьного об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шение вопроса МСЭ (при оформлении или продлении инвалидност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лучение рекомендаций о форме сдачи ГИ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2013 г. ПМПК не даёт рекомендаций о воспитании и обучении ребёнка в каком-либо конкретном учрежд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компетенции комиссии определение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программы обучения ребёнк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бор образовательного учреждения остаётся за родителя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родская ПМПК работает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есь календарный г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ведётся строго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предварительной запис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аться можно как по телефону, так и лично обратившись по месту работы комисс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осуществляется 2 раза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ь на приём и консультирование ведётся ежеднев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оллегиальное заключение ПМПК включает в себ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83534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Выводы о наличии либо отсутствии у ребёнка особенностей в физическом или психическом развитии или отклонений в поведени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Рекомендации по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формы получения образовани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образовательной программы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Форм и методов психолого-педагогической помощ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Созданию специальных условий для получения образования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ации ПМПК по определению образовательной программ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1 – 2 вида (глухие и слабослышащие) – школа-интернат №6 им Ласточкиной; 3 – 4 вида (слепые и слабовидящие) – школа №172; 5 вида (тяжёлые нарушения речи) – школа-интернат №7; 6 вида (нарушения опорно-двигательного аппарата) – школа №78 и школа-интернат №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щеобразовательной программе (начального, основного, среднего) общего образования для учащихся с нарушением (слуха, зрения, речи, опорно-двигательного аппарата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имеющих нарушения слуха, зрения, речи, ОДА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(начального, основного, среднего) общего образования с учётом индивидуальных психофизических особенностей, обусловленных нарушением (слуха, зрения, речи, ОДА, эмоционально-волевой сферы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1:25:08Z</dcterms:created>
  <dc:creator>Your User Name</dc:creator>
  <dc:description/>
  <dc:language>en-US</dc:language>
  <cp:lastModifiedBy>Your User Name</cp:lastModifiedBy>
  <dcterms:modified xsi:type="dcterms:W3CDTF">2015-12-03T09:21:44Z</dcterms:modified>
  <cp:revision>8</cp:revision>
  <dc:subject/>
  <dc:title>Слайд 1</dc:title>
</cp:coreProperties>
</file>